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B948-BCBF-4B61-AD0B-54FB6ACC897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7 Environme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ypes of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7 Environmental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ject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EL 2007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need to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N E R G 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we get this energy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O O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do we need to move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 N E R G 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ere do we get this energy from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 O O D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ppen with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act 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ould happen without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 fact ….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THING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&amp;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INETIC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LECTR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UN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EAT &amp; LIGHT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E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IN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RAVITATIONAL POTENTI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RAIN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UCLEAR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BCF-DDFE-417A-B1C8-A63924E6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6A9-AAA9-457A-87DD-F4CE2C5A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4F3-503E-4FF0-98BC-12395D95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C5C-6335-41FA-AC5D-5BA8AD4D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5E58-64F7-48CF-B26A-5C08CCA5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BBA5-B7C6-4657-8E74-B571D45A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47A9-6CF1-4855-A97B-EEF4BB8B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ECA1-80B0-459B-BF92-491BC7E4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9C1B-A6A9-4F4A-89F7-9524A795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4625-C291-4B60-8E40-88C3BAFA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1A8F-EA7F-46B1-92B7-32A5F342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09A-B0E0-4E5D-A563-4B20E655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BAF4-DC67-472E-AF04-DA0673F4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A65E-6A03-4BEB-B249-239AA3AF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3250-E18A-4793-A112-33D424B3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754A-7DA5-4D53-BEA1-A32EDFE2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1FA0-597A-4ABA-8F2E-41B96BAD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1F2CD-CE64-407A-8ED8-EAC09D94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B517E-884A-4969-A5FC-3AF9934A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BB0D3-77CF-41C7-B70C-56C88D1D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40385-460D-4DD4-AD95-F46124F5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9CC55-3A61-407B-9F78-8728A510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F0A-808C-41D0-9170-6C1DCD0A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2FDD5-F865-40C0-B524-4D020123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695E1-E730-4D65-B8D8-52E93AAF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458F3-B59F-43EE-8E41-8901A2AA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DDF31-5C39-45A7-AB07-9E899E5D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AAF3A-227F-426C-8C70-692F6A94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030E2-6D0F-4C04-95D6-3B3E60DD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98E51-41C7-49F9-9FB8-F6B9F52D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E0C-9A82-4122-8853-FADDCEA6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3A1-BD2A-4F96-886E-730821E9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A359-FC4A-4052-B62D-EF5DFAB7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E5A-64ED-40C3-8C83-E779DB05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556-C83C-459D-ABA9-A426B47D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FBA-004A-4D4D-B308-A52DCE4C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6746-81C7-4E2C-9A66-6009712A45EC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4628-BE12-40F2-8D21-9DA96B0484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B22B-5CB3-434A-820D-2AD62DF65A4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Types of Energy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7 Environment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roje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GEL 200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5" descr="fireworks_1"/>
          <p:cNvPicPr/>
          <p:nvPr/>
        </p:nvPicPr>
        <p:blipFill>
          <a:blip r:embed="rId1"/>
          <a:stretch/>
        </p:blipFill>
        <p:spPr>
          <a:xfrm>
            <a:off x="8101080" y="581508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fireworks_1"/>
          <p:cNvPicPr/>
          <p:nvPr/>
        </p:nvPicPr>
        <p:blipFill>
          <a:blip r:embed="rId2"/>
          <a:stretch/>
        </p:blipFill>
        <p:spPr>
          <a:xfrm>
            <a:off x="468360" y="0"/>
            <a:ext cx="1817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539640" y="2492280"/>
            <a:ext cx="2016360" cy="1584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QUESTION?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84582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at do we need to move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1384200" cy="11746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6"/>
          <p:cNvSpPr/>
          <p:nvPr/>
        </p:nvSpPr>
        <p:spPr>
          <a:xfrm>
            <a:off x="3132000" y="2708280"/>
            <a:ext cx="60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E N E R G Y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2"/>
          <a:stretch/>
        </p:blipFill>
        <p:spPr>
          <a:xfrm>
            <a:off x="6907320" y="3429000"/>
            <a:ext cx="2236680" cy="30956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8"/>
          <p:cNvSpPr/>
          <p:nvPr/>
        </p:nvSpPr>
        <p:spPr>
          <a:xfrm>
            <a:off x="0" y="429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ere do we get this energy fro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324000" y="544500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        </a:t>
            </a: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F O O D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4.44444E-006 L -0.01267 -0.00162 E">
                                      <p:cBhvr>
                                        <p:cTn id="57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4"/>
          <p:cNvSpPr/>
          <p:nvPr/>
        </p:nvSpPr>
        <p:spPr>
          <a:xfrm>
            <a:off x="2050920" y="198900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ffcc00"/>
                </a:solidFill>
                <a:latin typeface="Wide Latin"/>
              </a:rPr>
              <a:t>would happen without</a:t>
            </a:r>
            <a:r>
              <a:rPr b="0" lang="en-GB" sz="1800" spc="-1" strike="noStrike">
                <a:solidFill>
                  <a:srgbClr val="ffcc00"/>
                </a:solidFill>
                <a:latin typeface="That Darn Cat!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0" y="0"/>
            <a:ext cx="622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In fact …..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                 </a:t>
            </a: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NOTHING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2519280" y="472428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MidnightSnack BB"/>
              </a:rPr>
              <a:t>ENERGY</a:t>
            </a:r>
            <a:endParaRPr b="0" lang="en-US" sz="9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3" name="j009727.wav" descr=""/>
          <p:cNvPicPr/>
          <p:nvPr/>
        </p:nvPicPr>
        <p:blipFill>
          <a:blip r:embed="rId1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132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 flipV="1">
            <a:off x="0" y="3357720"/>
            <a:ext cx="9539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468360" y="2708280"/>
            <a:ext cx="396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KINETIC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4716360" y="2781360"/>
            <a:ext cx="442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ELECTR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250920" y="6308640"/>
            <a:ext cx="442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OUND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4643280" y="6308640"/>
            <a:ext cx="47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HEAT &amp; LIGHT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0" name="Picture 10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2449440" cy="1720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5940360" y="476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"/>
          <p:cNvPicPr/>
          <p:nvPr/>
        </p:nvPicPr>
        <p:blipFill>
          <a:blip r:embed="rId3"/>
          <a:stretch/>
        </p:blipFill>
        <p:spPr>
          <a:xfrm>
            <a:off x="1403280" y="3860640"/>
            <a:ext cx="1833480" cy="1833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3" descr=""/>
          <p:cNvPicPr/>
          <p:nvPr/>
        </p:nvPicPr>
        <p:blipFill>
          <a:blip r:embed="rId4"/>
          <a:stretch/>
        </p:blipFill>
        <p:spPr>
          <a:xfrm>
            <a:off x="6156360" y="3860640"/>
            <a:ext cx="1422360" cy="195120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14"/>
          <p:cNvSpPr/>
          <p:nvPr/>
        </p:nvSpPr>
        <p:spPr>
          <a:xfrm>
            <a:off x="0" y="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0" y="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0" y="2421000"/>
            <a:ext cx="450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GRAVITATIONAL POTENTI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4572000" y="29242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CHEM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324000" y="6308640"/>
            <a:ext cx="39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TRAIN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4788000" y="630864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NUCLEAR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2" name="Picture 12" descr="colony"/>
          <p:cNvPicPr/>
          <p:nvPr/>
        </p:nvPicPr>
        <p:blipFill>
          <a:blip r:embed="rId1"/>
          <a:stretch/>
        </p:blipFill>
        <p:spPr>
          <a:xfrm>
            <a:off x="755640" y="620640"/>
            <a:ext cx="2951280" cy="1673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2663640" cy="1913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2160720" cy="19893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5" descr=""/>
          <p:cNvPicPr/>
          <p:nvPr/>
        </p:nvPicPr>
        <p:blipFill>
          <a:blip r:embed="rId4"/>
          <a:stretch/>
        </p:blipFill>
        <p:spPr>
          <a:xfrm>
            <a:off x="5796000" y="36450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27:11Z</dcterms:created>
  <dc:creator>gelms</dc:creator>
  <dc:description/>
  <dc:language>en-US</dc:language>
  <cp:lastModifiedBy>RomaK</cp:lastModifiedBy>
  <dcterms:modified xsi:type="dcterms:W3CDTF">2015-09-03T12:38:47Z</dcterms:modified>
  <cp:revision>11</cp:revision>
  <dc:subject/>
  <dc:title>Types of Energy</dc:title>
</cp:coreProperties>
</file>